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1549A-1E96-4A4C-8D1E-3C6F3EED5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003C-F4BA-40BE-A989-5EC7F49A1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707ED8-6022-4633-9C25-1565C6B09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46039-A934-41F3-B162-7E217C06E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E3126-D239-45C9-A482-D2A69F7DB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F5E411-5641-4395-AADE-BCC24CB09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BA167-0CF2-4513-A439-04DBF44065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9574-9C4F-4024-8B7E-CFCF3D4C5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7C7AF-0465-4B11-BD8D-6C764BD7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C6935-E734-4006-A504-5F77C3C10E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17F97-4790-49D8-8BE9-CD51DC32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76A0D-732B-4748-A5C2-7DB35FEA77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71890-DA4E-4BA7-9B03-1C14F9D7C5C6}"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M EKLERİ</a:t>
            </a:r>
            <a:endParaRPr b="0" lang="en-US" sz="3600" spc="-1" strike="noStrike">
              <a:solidFill>
                <a:srgbClr val="000000"/>
              </a:solidFill>
              <a:latin typeface="Calibri"/>
            </a:endParaRPr>
          </a:p>
        </p:txBody>
      </p:sp>
      <p:sp>
        <p:nvSpPr>
          <p:cNvPr id="42" name=""/>
          <p:cNvSpPr txBox="1"/>
          <p:nvPr/>
        </p:nvSpPr>
        <p:spPr>
          <a:xfrm>
            <a:off x="457200" y="1125000"/>
            <a:ext cx="8229600" cy="54723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 kök veya gövdelerine eklenerek onlara yeni anlamlar kazandıran veya eklendikleri kelimenin türünü değiştiren eklere </a:t>
            </a:r>
            <a:r>
              <a:rPr b="1" lang="tr-TR" sz="2200" spc="-1" strike="noStrike">
                <a:solidFill>
                  <a:srgbClr val="000000"/>
                </a:solidFill>
                <a:latin typeface="Times New Roman"/>
                <a:ea typeface="Times New Roman"/>
              </a:rPr>
              <a:t>yapım ekleri </a:t>
            </a:r>
            <a:r>
              <a:rPr b="0" lang="tr-TR" sz="2200" spc="-1" strike="noStrike">
                <a:solidFill>
                  <a:srgbClr val="000000"/>
                </a:solidFill>
                <a:latin typeface="Times New Roman"/>
                <a:ea typeface="Times New Roman"/>
              </a:rPr>
              <a:t>denir. Yapım ekleri dilin kendi kanunlarına göre kullanılır. Hemen her türlü kelimeye aynı ekler getirilmez. İsim kök ve gövdelerinden belirli eklerle yeni kelimeler yapılırken, fiil kök ve gövdeleri de belirli ekler alarak yeni kelimelerin ortaya çıkmasını sağlarlar. Bu bakımdan dildeki her olay bir kurala bağlılıkla gerçekleşir. İsimler fiile, fiiller de isme gelen ekleri alamazlar. Her cins kelimenin alacağı ek bellidir. Dildeki bu düzen olmasa veya hiçe sayılsa dil kuralları alt üst olur. Buna dilin kendisi de izin vermez.</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pım eklerinin hepsi aynı derecede işlek değildir. Bunlardan bazıları çok işlek ve canlıdır. Dilde türetilen yeni kelimeler genellikle bu eklerle yapılır. Kimi ekler ise, daha az işlek veya kalıplaşmış donuk ekler olduklarından, kelime yapımında pek kullanılmaz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c.</a:t>
            </a: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Fiilden İsim Yapma Ekleri:</a:t>
            </a:r>
            <a:endParaRPr b="0" lang="en-US" sz="3600" spc="-1" strike="noStrike">
              <a:solidFill>
                <a:srgbClr val="000000"/>
              </a:solidFill>
              <a:latin typeface="Calibri"/>
            </a:endParaRPr>
          </a:p>
        </p:txBody>
      </p:sp>
      <p:sp>
        <p:nvSpPr>
          <p:cNvPr id="54" name=""/>
          <p:cNvSpPr txBox="1"/>
          <p:nvPr/>
        </p:nvSpPr>
        <p:spPr>
          <a:xfrm>
            <a:off x="457200" y="1196640"/>
            <a:ext cx="8229600" cy="5256360"/>
          </a:xfrm>
          <a:prstGeom prst="rect">
            <a:avLst/>
          </a:prstGeom>
          <a:noFill/>
          <a:ln w="0">
            <a:noFill/>
          </a:ln>
        </p:spPr>
        <p:txBody>
          <a:bodyPr anchor="t">
            <a:normAutofit/>
          </a:bodyPr>
          <a:p>
            <a:pPr lvl="2" marL="1143000" indent="-2286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ekler fiil köklerine, isimden yapılmış fiil gövdelerine ve fiilden yapılmış fiil gövdelerine getirilir.</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mak, -mek: </a:t>
            </a:r>
            <a:r>
              <a:rPr b="0" lang="tr-TR" sz="2000" spc="-1" strike="noStrike">
                <a:solidFill>
                  <a:srgbClr val="000000"/>
                </a:solidFill>
                <a:latin typeface="Times New Roman"/>
                <a:ea typeface="Times New Roman"/>
              </a:rPr>
              <a:t>Bütün fiil kök ve gövdelerine getirilen bir ektir. Bu ek ile yapılan fiil isimlerine “</a:t>
            </a:r>
            <a:r>
              <a:rPr b="1" lang="tr-TR" sz="2000" spc="-1" strike="noStrike">
                <a:solidFill>
                  <a:srgbClr val="000000"/>
                </a:solidFill>
                <a:latin typeface="Times New Roman"/>
                <a:ea typeface="Times New Roman"/>
              </a:rPr>
              <a:t>mastar</a:t>
            </a:r>
            <a:r>
              <a:rPr b="0" lang="tr-TR" sz="2000" spc="-1" strike="noStrike">
                <a:solidFill>
                  <a:srgbClr val="000000"/>
                </a:solidFill>
                <a:latin typeface="Times New Roman"/>
                <a:ea typeface="Times New Roman"/>
              </a:rPr>
              <a:t>” adı verilir. Bu ekin görevi, fiillerin hareket isimlerini yapmaktır: </a:t>
            </a:r>
            <a:r>
              <a:rPr b="1" lang="tr-TR" sz="2000" spc="-1" strike="noStrike">
                <a:solidFill>
                  <a:srgbClr val="000000"/>
                </a:solidFill>
                <a:latin typeface="Times New Roman"/>
                <a:ea typeface="Times New Roman"/>
              </a:rPr>
              <a:t>yaz-mak, oku-mak, başla-mak, çiz-mek, ver-mek, iç-mek. </a:t>
            </a:r>
            <a:r>
              <a:rPr b="0" lang="tr-TR" sz="2000" spc="-1" strike="noStrike">
                <a:solidFill>
                  <a:srgbClr val="000000"/>
                </a:solidFill>
                <a:latin typeface="Times New Roman"/>
                <a:ea typeface="Times New Roman"/>
              </a:rPr>
              <a:t>Bunlar geçici isimlerdir. Bu ekle, bazı kalıcı isimler de yapılmıştır: çak</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kay</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ek</a:t>
            </a:r>
            <a:r>
              <a:rPr b="1" lang="tr-TR" sz="2000" spc="-1" strike="noStrike">
                <a:solidFill>
                  <a:srgbClr val="000000"/>
                </a:solidFill>
                <a:latin typeface="Times New Roman"/>
                <a:ea typeface="Times New Roman"/>
              </a:rPr>
              <a:t>mek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ma, me</a:t>
            </a:r>
            <a:r>
              <a:rPr b="0" lang="tr-TR" sz="2000" spc="-1" strike="noStrike">
                <a:solidFill>
                  <a:srgbClr val="000000"/>
                </a:solidFill>
                <a:latin typeface="Times New Roman"/>
                <a:ea typeface="Times New Roman"/>
              </a:rPr>
              <a:t>: Bütün fiil kök ve gövdelerine getirilebilen diğer işlek bir ektir. Görevi iş isimleri yapmaktır: </a:t>
            </a:r>
            <a:r>
              <a:rPr b="1" lang="tr-TR" sz="2000" spc="-1" strike="noStrike">
                <a:solidFill>
                  <a:srgbClr val="000000"/>
                </a:solidFill>
                <a:latin typeface="Times New Roman"/>
                <a:ea typeface="Times New Roman"/>
              </a:rPr>
              <a:t>oku-ma,  yaz-ma, çiz-me, bil-me, öğrem-me, sil-me. </a:t>
            </a:r>
            <a:r>
              <a:rPr b="0" lang="tr-TR" sz="2000" spc="-1" strike="noStrike">
                <a:solidFill>
                  <a:srgbClr val="000000"/>
                </a:solidFill>
                <a:latin typeface="Times New Roman"/>
                <a:ea typeface="Times New Roman"/>
              </a:rPr>
              <a:t>Bunlar da geçici iş isimleridir. Bu ek kalıcı isim yapmaya daha elverişlidir: yaz</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ser), dond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kav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dol</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sar</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ış, -iş, -uş, -ü</a:t>
            </a:r>
            <a:r>
              <a:rPr b="0" lang="tr-TR" sz="2000" spc="-1" strike="noStrike">
                <a:solidFill>
                  <a:srgbClr val="000000"/>
                </a:solidFill>
                <a:latin typeface="Times New Roman"/>
                <a:ea typeface="Times New Roman"/>
              </a:rPr>
              <a:t>ş: Yukarıdaki </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ki gibidir. İş ifade eden fiil isimleri yapar. Kalıcı isim yapmaya da elverişlidir: </a:t>
            </a:r>
            <a:r>
              <a:rPr b="1" lang="tr-TR" sz="2000" spc="-1" strike="noStrike">
                <a:solidFill>
                  <a:srgbClr val="000000"/>
                </a:solidFill>
                <a:latin typeface="Times New Roman"/>
                <a:ea typeface="Times New Roman"/>
              </a:rPr>
              <a:t>al-ış, ver-iş, gel-iş, otur-uş, gül-üş, bak-ış </a:t>
            </a:r>
            <a:r>
              <a:rPr b="0" lang="tr-TR" sz="2000" spc="-1" strike="noStrike">
                <a:solidFill>
                  <a:srgbClr val="000000"/>
                </a:solidFill>
                <a:latin typeface="Times New Roman"/>
                <a:ea typeface="Times New Roman"/>
              </a:rPr>
              <a:t>vb.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92280"/>
            <a:ext cx="8229600" cy="5689440"/>
          </a:xfrm>
          <a:prstGeom prst="rect">
            <a:avLst/>
          </a:prstGeom>
          <a:noFill/>
          <a:ln w="0">
            <a:noFill/>
          </a:ln>
        </p:spPr>
        <p:txBody>
          <a:bodyPr anchor="t">
            <a:normAutofit/>
          </a:bodyPr>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t>
            </a:r>
            <a:r>
              <a:rPr b="0" lang="tr-TR" sz="2200" spc="-1" strike="noStrike">
                <a:solidFill>
                  <a:srgbClr val="000000"/>
                </a:solidFill>
                <a:latin typeface="Times New Roman"/>
                <a:ea typeface="Times New Roman"/>
              </a:rPr>
              <a:t> Bu fiilden isim yapma eklerinin çok işlek olanlarındandır. Fiille ilgili olarak hal, durum, iş ifade ederler: </a:t>
            </a:r>
            <a:r>
              <a:rPr b="1" lang="tr-TR" sz="2200" spc="-1" strike="noStrike">
                <a:solidFill>
                  <a:srgbClr val="000000"/>
                </a:solidFill>
                <a:latin typeface="Times New Roman"/>
                <a:ea typeface="Times New Roman"/>
              </a:rPr>
              <a:t>al-(ı)m, ver-(i)m, sat-(ı)m, iç-(i)m, öl-(ü)m, boğ-(u)</a:t>
            </a:r>
            <a:r>
              <a:rPr b="0" lang="tr-TR" sz="2200" spc="-1" strike="noStrike">
                <a:solidFill>
                  <a:srgbClr val="000000"/>
                </a:solidFill>
                <a:latin typeface="Times New Roman"/>
                <a:ea typeface="Times New Roman"/>
              </a:rPr>
              <a:t>m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t>
            </a:r>
            <a:r>
              <a:rPr b="0" lang="tr-TR" sz="2200" spc="-1" strike="noStrike">
                <a:solidFill>
                  <a:srgbClr val="000000"/>
                </a:solidFill>
                <a:latin typeface="Times New Roman"/>
                <a:ea typeface="Times New Roman"/>
              </a:rPr>
              <a:t> Eskiden beri kullanılan ve işlek olan eklerdendir. Getirildiği fiilin gösterdiği harekete uğramış isimler veya o hareketten doğmuş bulunan nesneler yapar: </a:t>
            </a:r>
            <a:r>
              <a:rPr b="1" lang="tr-TR" sz="2200" spc="-1" strike="noStrike">
                <a:solidFill>
                  <a:srgbClr val="000000"/>
                </a:solidFill>
                <a:latin typeface="Times New Roman"/>
                <a:ea typeface="Times New Roman"/>
              </a:rPr>
              <a:t>aç-(ı)k, yat-(ı)k, don-(u)k, sön-(ü)k, sark-(ı)k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k, -ek</a:t>
            </a:r>
            <a:r>
              <a:rPr b="0" lang="tr-TR" sz="2200" spc="-1" strike="noStrike">
                <a:solidFill>
                  <a:srgbClr val="000000"/>
                </a:solidFill>
                <a:latin typeface="Times New Roman"/>
                <a:ea typeface="Times New Roman"/>
              </a:rPr>
              <a:t>: Getirildiği fiilin gösterdiği hareketi çokça yapanı, olanı, yapılanı; hareketin yapıldığı yeri ve aleti ifade eder.  İşlek olan eklerimizdendir: </a:t>
            </a:r>
            <a:r>
              <a:rPr b="1" lang="tr-TR" sz="2200" spc="-1" strike="noStrike">
                <a:solidFill>
                  <a:srgbClr val="000000"/>
                </a:solidFill>
                <a:latin typeface="Times New Roman"/>
                <a:ea typeface="Times New Roman"/>
              </a:rPr>
              <a:t>kaç- ak, yat-ak, bıç-ak, dur-ak, dön-ek, sin-ek</a:t>
            </a:r>
            <a:r>
              <a:rPr b="0" lang="tr-TR" sz="2200" spc="-1" strike="noStrike">
                <a:solidFill>
                  <a:srgbClr val="000000"/>
                </a:solidFill>
                <a:latin typeface="Times New Roman"/>
                <a:ea typeface="Times New Roman"/>
              </a:rPr>
              <a:t>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a:t>
            </a:r>
            <a:r>
              <a:rPr b="0" lang="tr-TR" sz="2200" spc="-1" strike="noStrike">
                <a:solidFill>
                  <a:srgbClr val="000000"/>
                </a:solidFill>
                <a:latin typeface="Times New Roman"/>
                <a:ea typeface="Times New Roman"/>
              </a:rPr>
              <a:t>  Eskiden beri kullanılan ve hala işlekliğini sürdüren eklerimizdendir. Getirildiği fiilin gösterdiği hareketi yapanı, olanı ve yapılanı ifade eder: </a:t>
            </a:r>
            <a:r>
              <a:rPr b="1" lang="tr-TR" sz="2200" spc="-1" strike="noStrike">
                <a:solidFill>
                  <a:srgbClr val="000000"/>
                </a:solidFill>
                <a:latin typeface="Times New Roman"/>
                <a:ea typeface="Times New Roman"/>
              </a:rPr>
              <a:t>ek-(i)n, tüt-(ü)n, yığ-(ı)n, ak-(ı)n, gel-(i)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 -gi, -gu, -gü, -kı, -ki, -ku, -kü: </a:t>
            </a:r>
            <a:r>
              <a:rPr b="0" lang="tr-TR" sz="2400" spc="-1" strike="noStrike">
                <a:solidFill>
                  <a:srgbClr val="000000"/>
                </a:solidFill>
                <a:latin typeface="Times New Roman"/>
                <a:ea typeface="Times New Roman"/>
              </a:rPr>
              <a:t>İşlek eklerimizden biri olup, fiilin gösterdiği hareketle ilgili çeşitli nesneleri ifade eder: </a:t>
            </a:r>
            <a:r>
              <a:rPr b="1" lang="tr-TR" sz="2400" spc="-1" strike="noStrike">
                <a:solidFill>
                  <a:srgbClr val="000000"/>
                </a:solidFill>
                <a:latin typeface="Times New Roman"/>
                <a:ea typeface="Times New Roman"/>
              </a:rPr>
              <a:t>çal-gı, yar-gı, duy-gu, bur-gu, gör-gü, ör-gü, bas-kı, iç-ki, uy-ku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n, -gin, -gun, -gün, -kın, -kin, -kun, -kün</a:t>
            </a:r>
            <a:r>
              <a:rPr b="0" lang="tr-TR" sz="2400" spc="-1" strike="noStrike">
                <a:solidFill>
                  <a:srgbClr val="000000"/>
                </a:solidFill>
                <a:latin typeface="Times New Roman"/>
                <a:ea typeface="Times New Roman"/>
              </a:rPr>
              <a:t>: Eskiden beri kullanılan ve günümüzde de işlekliğini sürdüren eklerdendir. Getirildiği fiile büyütme ve aşırılık anlamı kazandırır. Genellikle tek heceli fiillere getirilir:</a:t>
            </a:r>
            <a:r>
              <a:rPr b="1" lang="tr-TR" sz="2400" spc="-1" strike="noStrike">
                <a:solidFill>
                  <a:srgbClr val="000000"/>
                </a:solidFill>
                <a:latin typeface="Times New Roman"/>
                <a:ea typeface="Times New Roman"/>
              </a:rPr>
              <a:t> bil-gin, er-gin, üz-gün, seç-kin, çoş-kun, küs-kü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an, -gen, -kan, -ken</a:t>
            </a:r>
            <a:r>
              <a:rPr b="0" lang="tr-TR" sz="2400" spc="-1" strike="noStrike">
                <a:solidFill>
                  <a:srgbClr val="000000"/>
                </a:solidFill>
                <a:latin typeface="Times New Roman"/>
                <a:ea typeface="Times New Roman"/>
              </a:rPr>
              <a:t>:  Tek heceli fiillere getirilmeyen bu ek işlek olup aşırılık anlamı taşır.  Meydana getirdiği isimlere, çok yapma ve olma anlamı  kazandırır: </a:t>
            </a:r>
            <a:r>
              <a:rPr b="1" lang="tr-TR" sz="2400" spc="-1" strike="noStrike">
                <a:solidFill>
                  <a:srgbClr val="000000"/>
                </a:solidFill>
                <a:latin typeface="Times New Roman"/>
                <a:ea typeface="Times New Roman"/>
              </a:rPr>
              <a:t>sıkıl-gan, alın-gan, sürün-gen, unut-kan, giriş-ken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cı, -ici, -ucu, -ücü: </a:t>
            </a:r>
            <a:r>
              <a:rPr b="0" lang="tr-TR" sz="2400" spc="-1" strike="noStrike">
                <a:solidFill>
                  <a:srgbClr val="000000"/>
                </a:solidFill>
                <a:latin typeface="Times New Roman"/>
                <a:ea typeface="Times New Roman"/>
              </a:rPr>
              <a:t>Çokluk,aşırılık ve devamlılık anlamı taşıyan işlek eklerdendir: </a:t>
            </a:r>
            <a:r>
              <a:rPr b="1" lang="tr-TR" sz="2400" spc="-1" strike="noStrike">
                <a:solidFill>
                  <a:srgbClr val="000000"/>
                </a:solidFill>
                <a:latin typeface="Times New Roman"/>
                <a:ea typeface="Times New Roman"/>
              </a:rPr>
              <a:t>sat-ıcı, al-ıcı, ver-ici, geç-ici, oku-(y)ucu, uç-ucu, söndür-ücü, sür-üc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an, -men</a:t>
            </a:r>
            <a:r>
              <a:rPr b="0" lang="tr-TR" sz="2400" spc="-1" strike="noStrike">
                <a:solidFill>
                  <a:srgbClr val="000000"/>
                </a:solidFill>
                <a:latin typeface="Times New Roman"/>
                <a:ea typeface="Times New Roman"/>
              </a:rPr>
              <a:t>: Pek işlek olmayan bu ek, fiilden isim yapma eki olarak kullanıldığı gibi isimden isim yapma eki olarak da kullanılabilir: </a:t>
            </a:r>
            <a:r>
              <a:rPr b="1" lang="tr-TR" sz="2400" spc="-1" strike="noStrike">
                <a:solidFill>
                  <a:srgbClr val="000000"/>
                </a:solidFill>
                <a:latin typeface="Times New Roman"/>
                <a:ea typeface="Times New Roman"/>
              </a:rPr>
              <a:t>şiş-man, göç-men, öğret-men, seç-me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 -i, -u, -ü: </a:t>
            </a:r>
            <a:r>
              <a:rPr b="0" lang="tr-TR" sz="2400" spc="-1" strike="noStrike">
                <a:solidFill>
                  <a:srgbClr val="000000"/>
                </a:solidFill>
                <a:latin typeface="Times New Roman"/>
                <a:ea typeface="Times New Roman"/>
              </a:rPr>
              <a:t>İşlek bir ektir: </a:t>
            </a:r>
            <a:r>
              <a:rPr b="1" lang="tr-TR" sz="2400" spc="-1" strike="noStrike">
                <a:solidFill>
                  <a:srgbClr val="000000"/>
                </a:solidFill>
                <a:latin typeface="Times New Roman"/>
                <a:ea typeface="Times New Roman"/>
              </a:rPr>
              <a:t>ört-ü, kork-u, yap-ı, öl-ü, yaz-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 Fiilden Fiil Yapan Ekler:</a:t>
            </a:r>
            <a:endParaRPr b="0" lang="en-US" sz="3600" spc="-1" strike="noStrike">
              <a:solidFill>
                <a:srgbClr val="000000"/>
              </a:solidFill>
              <a:latin typeface="Calibri"/>
            </a:endParaRPr>
          </a:p>
        </p:txBody>
      </p:sp>
      <p:sp>
        <p:nvSpPr>
          <p:cNvPr id="59" name=""/>
          <p:cNvSpPr txBox="1"/>
          <p:nvPr/>
        </p:nvSpPr>
        <p:spPr>
          <a:xfrm>
            <a:off x="457200" y="1599840"/>
            <a:ext cx="8229600" cy="4924440"/>
          </a:xfrm>
          <a:prstGeom prst="rect">
            <a:avLst/>
          </a:prstGeom>
          <a:noFill/>
          <a:ln w="0">
            <a:noFill/>
          </a:ln>
        </p:spPr>
        <p:txBody>
          <a:bodyPr anchor="t">
            <a:normAutofit/>
          </a:bodyPr>
          <a:p>
            <a:pPr lvl="2" marL="1143000" indent="-228600" algn="just">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ekler fiil köklerine, fiilden yapılmış fiil gövdelerine ve isimden yapılmış fiil gövdelerine getirilirler. Sayıları azdır. Belli başlıları şunlardı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 -me-: </a:t>
            </a:r>
            <a:r>
              <a:rPr b="0" lang="tr-TR" sz="2200" spc="-1" strike="noStrike">
                <a:solidFill>
                  <a:srgbClr val="000000"/>
                </a:solidFill>
                <a:latin typeface="Times New Roman"/>
                <a:ea typeface="Times New Roman"/>
              </a:rPr>
              <a:t>Eskiden beri kullanılan bu ek fiilden fiil yapma eklerinin en işlek olanıdır. Getirildiği fiile olumsuzluk anlamı kazandırır: </a:t>
            </a:r>
            <a:r>
              <a:rPr b="1" lang="tr-TR" sz="2200" spc="-1" strike="noStrike">
                <a:solidFill>
                  <a:srgbClr val="000000"/>
                </a:solidFill>
                <a:latin typeface="Times New Roman"/>
                <a:ea typeface="Times New Roman"/>
              </a:rPr>
              <a:t>yaz-ma-, oku-ma-, gir-me-, git-me-, biç-me-</a:t>
            </a:r>
            <a:r>
              <a:rPr b="0" lang="tr-TR" sz="2200" spc="-1" strike="noStrike">
                <a:solidFill>
                  <a:srgbClr val="000000"/>
                </a:solidFill>
                <a:latin typeface="Times New Roman"/>
                <a:ea typeface="Times New Roman"/>
              </a:rPr>
              <a:t> vb. Bu ekten sonra hiçbir fiilden fiil yapma eki getirilemez. Çünkü olumsuzluk eki getirildiği fiil gövdesinin daima en sonunda bulunur. Bu ek üzerine fiilden isim yapma ekleriyle, çekim ekleri getirilebili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n-: </a:t>
            </a:r>
            <a:r>
              <a:rPr b="0" lang="tr-TR" sz="2200" spc="-1" strike="noStrike">
                <a:solidFill>
                  <a:srgbClr val="000000"/>
                </a:solidFill>
                <a:latin typeface="Times New Roman"/>
                <a:ea typeface="Times New Roman"/>
              </a:rPr>
              <a:t>Fiilden fiil yapma eklerinin işlek olanlarındandır. Görevi kendi kendine yapma ve olma ifade eden fiiller yapmak olduğu için  bu ekle yapılan fiillere  “</a:t>
            </a:r>
            <a:r>
              <a:rPr b="1" lang="tr-TR" sz="2200" spc="-1" strike="noStrike">
                <a:solidFill>
                  <a:srgbClr val="000000"/>
                </a:solidFill>
                <a:latin typeface="Times New Roman"/>
                <a:ea typeface="Times New Roman"/>
              </a:rPr>
              <a:t>dönüşlü fiiller</a:t>
            </a:r>
            <a:r>
              <a:rPr b="0" lang="tr-TR" sz="2200" spc="-1" strike="noStrike">
                <a:solidFill>
                  <a:srgbClr val="000000"/>
                </a:solidFill>
                <a:latin typeface="Times New Roman"/>
                <a:ea typeface="Times New Roman"/>
              </a:rPr>
              <a:t>”, “-n- “ ekine de dönüşlülük eki denir. Dönüşlü fiillerin büyük bir kısmı geçişsizdir: </a:t>
            </a:r>
            <a:r>
              <a:rPr b="1" lang="tr-TR" sz="2200" spc="-1" strike="noStrike">
                <a:solidFill>
                  <a:srgbClr val="000000"/>
                </a:solidFill>
                <a:latin typeface="Times New Roman"/>
                <a:ea typeface="Times New Roman"/>
              </a:rPr>
              <a:t>al-ı-n-, gez-i-n-, dola-n-, giy-i-n-, döv-ü-n-, kaç-ı-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549360"/>
            <a:ext cx="8686800" cy="597528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 </a:t>
            </a:r>
            <a:r>
              <a:rPr b="0" lang="tr-TR" sz="2400" spc="-1" strike="noStrike">
                <a:solidFill>
                  <a:srgbClr val="000000"/>
                </a:solidFill>
                <a:latin typeface="Times New Roman"/>
                <a:ea typeface="Times New Roman"/>
              </a:rPr>
              <a:t>Pasiflik ve meçhul ifade eden fiiller yapmada kullanılır. İşlek bir ektir. Geçişsiz fiillerden meçhul fiiller yapar: </a:t>
            </a:r>
            <a:r>
              <a:rPr b="1" lang="tr-TR" sz="2400" spc="-1" strike="noStrike">
                <a:solidFill>
                  <a:srgbClr val="000000"/>
                </a:solidFill>
                <a:latin typeface="Times New Roman"/>
                <a:ea typeface="Times New Roman"/>
              </a:rPr>
              <a:t>dur-u-l-, sor-u-l-, kork-u-l-, yat-ı-l-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ş-</a:t>
            </a:r>
            <a:r>
              <a:rPr b="0" lang="tr-TR" sz="2400" spc="-1" strike="noStrike">
                <a:solidFill>
                  <a:srgbClr val="000000"/>
                </a:solidFill>
                <a:latin typeface="Times New Roman"/>
                <a:ea typeface="Times New Roman"/>
              </a:rPr>
              <a:t>: Türkçede eskiden beri kullanılan eklerdendir. Ortaklaşma ve bir oluş ifade eder: </a:t>
            </a:r>
            <a:r>
              <a:rPr b="1" lang="tr-TR" sz="2400" spc="-1" strike="noStrike">
                <a:solidFill>
                  <a:srgbClr val="000000"/>
                </a:solidFill>
                <a:latin typeface="Times New Roman"/>
                <a:ea typeface="Times New Roman"/>
              </a:rPr>
              <a:t>vur-u-ş-, at-ı-ş-, sözle-ş-, gör-ü-ş-, gül-ü-ş-, ağla-ş-, kar-ı-ş-, gel-i-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r-:</a:t>
            </a:r>
            <a:r>
              <a:rPr b="0" lang="tr-TR" sz="2400" spc="-1" strike="noStrike">
                <a:solidFill>
                  <a:srgbClr val="000000"/>
                </a:solidFill>
                <a:latin typeface="Times New Roman"/>
                <a:ea typeface="Times New Roman"/>
              </a:rPr>
              <a:t> Yaptığı fiiller geçişlidir. Oldurma ve yaptırma ifade eder. Bir oluş ve pasiflik ifade etmezler. Geçişsiz fiilleri geçişli yaparlar. Geçişli fiillerden de geçişli fiiller yaparlar. Bu ek ve diğer faktitif ekleri geçişlilik ve başkasına  yaptırma  ifade ederler: </a:t>
            </a:r>
            <a:r>
              <a:rPr b="1" lang="tr-TR" sz="2400" spc="-1" strike="noStrike">
                <a:solidFill>
                  <a:srgbClr val="000000"/>
                </a:solidFill>
                <a:latin typeface="Times New Roman"/>
                <a:ea typeface="Times New Roman"/>
              </a:rPr>
              <a:t>göç-ü-r-, uç-u-r-, iç-i-r-, kaç-ı-r-, şaş-ı-r-, bat-ı-r-, duy-u-r-, doy-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a:t>
            </a:r>
            <a:r>
              <a:rPr b="0" lang="tr-TR" sz="2400" spc="-1" strike="noStrike">
                <a:solidFill>
                  <a:srgbClr val="000000"/>
                </a:solidFill>
                <a:latin typeface="Times New Roman"/>
                <a:ea typeface="Times New Roman"/>
              </a:rPr>
              <a:t>: Yukarıdaki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özelliklerine sahip olup yan faktitif eklerindendir: </a:t>
            </a:r>
            <a:r>
              <a:rPr b="1" lang="tr-TR" sz="2400" spc="-1" strike="noStrike">
                <a:solidFill>
                  <a:srgbClr val="000000"/>
                </a:solidFill>
                <a:latin typeface="Times New Roman"/>
                <a:ea typeface="Times New Roman"/>
              </a:rPr>
              <a:t>uza-t-, söyle-t-, inci-t-, kızar-t-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ır-, -dir-, -dur-, -dür-; -tır-, -tir-, -tur-, -tür</a:t>
            </a:r>
            <a:r>
              <a:rPr b="0" lang="tr-TR" sz="2400" spc="-1" strike="noStrike">
                <a:solidFill>
                  <a:srgbClr val="000000"/>
                </a:solidFill>
                <a:latin typeface="Times New Roman"/>
                <a:ea typeface="Times New Roman"/>
              </a:rPr>
              <a:t>-: Bu ek de faktitif eklerinden olup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sahip olduğu özellikleri taşır. Faktitif eklerinin en işlek olanıdır: </a:t>
            </a:r>
            <a:r>
              <a:rPr b="1" lang="tr-TR" sz="2400" spc="-1" strike="noStrike">
                <a:solidFill>
                  <a:srgbClr val="000000"/>
                </a:solidFill>
                <a:latin typeface="Times New Roman"/>
                <a:ea typeface="Times New Roman"/>
              </a:rPr>
              <a:t>yağ-dır-, ye-dir-, boğ-dur-, gül-dür-, yak-tır-, koş-t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59920"/>
            <a:ext cx="74977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ÇEKİM EKLERİ</a:t>
            </a:r>
            <a:endParaRPr b="0" lang="en-US" sz="3600" spc="-1" strike="noStrike">
              <a:solidFill>
                <a:srgbClr val="000000"/>
              </a:solidFill>
              <a:latin typeface="Calibri"/>
            </a:endParaRPr>
          </a:p>
        </p:txBody>
      </p:sp>
      <p:sp>
        <p:nvSpPr>
          <p:cNvPr id="63" name=""/>
          <p:cNvSpPr txBox="1"/>
          <p:nvPr/>
        </p:nvSpPr>
        <p:spPr>
          <a:xfrm>
            <a:off x="539280" y="1052640"/>
            <a:ext cx="8394840" cy="5689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İsim Çekim Ek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im çekim ekleri, çokluk, iyelik, hâl ve soru olmak üzere dört grupta toplanır. </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a-Çokluk ekleri</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  ve -1er ekleridir.</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b-İyelik ekleri, </a:t>
            </a:r>
            <a:r>
              <a:rPr b="0" lang="tr-TR" sz="2000" spc="-1" strike="noStrike">
                <a:solidFill>
                  <a:srgbClr val="000000"/>
                </a:solidFill>
                <a:latin typeface="Times New Roman"/>
                <a:ea typeface="Times New Roman"/>
              </a:rPr>
              <a:t>ismin karşıladığı nesnenin bir kişiye veya bir nesneye ait olduğunu gösteren çekim ekleridir. İye sahip anlamındadır. İyelik de sahiplik demekti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yelik ekleri teklik ve çokluk olarak altı şahısta şöyledi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eklik</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Çoklu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1.Şahıs</a:t>
            </a:r>
            <a:r>
              <a:rPr b="0" lang="tr-TR" sz="2000" spc="-1" strike="noStrike">
                <a:solidFill>
                  <a:srgbClr val="000000"/>
                </a:solidFill>
                <a:latin typeface="Times New Roman"/>
                <a:ea typeface="Times New Roman"/>
              </a:rPr>
              <a:t>: -m</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ız,-miz,-muz,-m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2.Şahıs</a:t>
            </a:r>
            <a:r>
              <a:rPr b="0" lang="tr-TR" sz="2000" spc="-1" strike="noStrike">
                <a:solidFill>
                  <a:srgbClr val="000000"/>
                </a:solidFill>
                <a:latin typeface="Times New Roman"/>
                <a:ea typeface="Times New Roman"/>
              </a:rPr>
              <a:t>: -n</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nız, -niz,  -nuz,  -n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3.Şahıs</a:t>
            </a:r>
            <a:r>
              <a:rPr b="0" lang="tr-TR" sz="2000" spc="-1" strike="noStrike">
                <a:solidFill>
                  <a:srgbClr val="000000"/>
                </a:solidFill>
                <a:latin typeface="Times New Roman"/>
                <a:ea typeface="Times New Roman"/>
              </a:rPr>
              <a:t>: -ı,-i, -u, -ü, sı, -si, -su, -sü</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ı, -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sı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ız,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ı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ları</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189000"/>
            <a:ext cx="8539200" cy="64087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c- Hâl ekleri</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  isme, fiile ve edata bağlar. İsimler ile bağlandıkları kelime arasında ilişki kurarlar. İsmin hâlleri şunl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lın</a:t>
            </a:r>
            <a:r>
              <a:rPr b="0" lang="tr-TR" sz="2400" spc="-1" strike="noStrike">
                <a:solidFill>
                  <a:srgbClr val="00b0f0"/>
                </a:solidFill>
                <a:latin typeface="Times New Roman"/>
                <a:ea typeface="Times New Roman"/>
              </a:rPr>
              <a:t>	</a:t>
            </a:r>
            <a:r>
              <a:rPr b="1" lang="tr-TR" sz="2400" spc="-1" strike="noStrike">
                <a:solidFill>
                  <a:srgbClr val="00b0f0"/>
                </a:solidFill>
                <a:latin typeface="Times New Roman"/>
                <a:ea typeface="Times New Roman"/>
              </a:rPr>
              <a:t>hâl, </a:t>
            </a:r>
            <a:r>
              <a:rPr b="0" lang="tr-TR" sz="2400" spc="-1" strike="noStrike">
                <a:solidFill>
                  <a:srgbClr val="000000"/>
                </a:solidFill>
                <a:latin typeface="Times New Roman"/>
                <a:ea typeface="Times New Roman"/>
              </a:rPr>
              <a:t>ismin başka bir isme bağlı olmadığını gösteren hâldir. Taş, yollar, evlerimiz...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lgi hali, </a:t>
            </a:r>
            <a:r>
              <a:rPr b="0" lang="tr-TR" sz="2400" spc="-1" strike="noStrike">
                <a:solidFill>
                  <a:srgbClr val="000000"/>
                </a:solidFill>
                <a:latin typeface="Times New Roman"/>
                <a:ea typeface="Times New Roman"/>
              </a:rPr>
              <a:t>ismin başka bir isimle ilişkisi olduğunu gösteren haldir. –ın, -in, -un, -ün, -nın, -nin, -nun, -nün şeklinde gelir.  Ağac-ın, çiçeğ-in, Manisa-nın…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pma hâli, </a:t>
            </a:r>
            <a:r>
              <a:rPr b="0" lang="tr-TR" sz="2400" spc="-1" strike="noStrike">
                <a:solidFill>
                  <a:srgbClr val="000000"/>
                </a:solidFill>
                <a:latin typeface="Times New Roman"/>
                <a:ea typeface="Times New Roman"/>
              </a:rPr>
              <a:t>ismin, geçişli fiilin etkisinde olduğunu gösteren hâldir, Ekli veya eksiz olup yapma ifade eder. Ekleri -ı, -i, -u, -ü şeklindedir.  Ağacı, defteri, okulu... gibi. Birde zamirlere getirilen -nı, -ni, -nu, -nü yapma hâli eki vardır. Bunu, şunu, onu...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476280"/>
            <a:ext cx="8683560" cy="61927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klaşma</a:t>
            </a:r>
            <a:r>
              <a:rPr b="0" lang="tr-TR" sz="2400" spc="-1" strike="noStrike">
                <a:solidFill>
                  <a:srgbClr val="00b0f0"/>
                </a:solidFill>
                <a:latin typeface="Times New Roman"/>
                <a:ea typeface="Times New Roman"/>
              </a:rPr>
              <a:t> hâli, </a:t>
            </a:r>
            <a:r>
              <a:rPr b="0" lang="tr-TR" sz="2400" spc="-1" strike="noStrike">
                <a:solidFill>
                  <a:srgbClr val="000000"/>
                </a:solidFill>
                <a:latin typeface="Times New Roman"/>
                <a:ea typeface="Times New Roman"/>
              </a:rPr>
              <a:t>ismin kendisine yaklaşma ifade eden fiillere bağlanmak için girdiği hâldir. Yaklaşma ifade eder, yer ve yön gösterir.  Ekleri, -a, -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ana, güzele, elbiseme, dağlara...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Bulunma hâli, </a:t>
            </a:r>
            <a:r>
              <a:rPr b="0" lang="tr-TR" sz="2400" spc="-1" strike="noStrike">
                <a:solidFill>
                  <a:srgbClr val="000000"/>
                </a:solidFill>
                <a:latin typeface="Times New Roman"/>
                <a:ea typeface="Times New Roman"/>
              </a:rPr>
              <a:t>ismin kendisinde bulunma ifade eden fiillerle ilişkide olduğunu gösteren hâldir. Bulunma ifade eder, ismi fiile bağlar. Ekleri, -da,  -de, -ta, -te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arlada, geride, yollarda, yüksekte...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Uzaklaşma hâli, </a:t>
            </a:r>
            <a:r>
              <a:rPr b="0" lang="tr-TR" sz="2400" spc="-1" strike="noStrike">
                <a:solidFill>
                  <a:srgbClr val="000000"/>
                </a:solidFill>
                <a:latin typeface="Times New Roman"/>
                <a:ea typeface="Times New Roman"/>
              </a:rPr>
              <a:t>ismin kendisinden uzaklaşma ifade eden fiillerle ilişkisini gösteren hâldir. Uzaklaşma ifade eder, yer ve yön gösterir. Ekleri, -dan, -den, -tan, -ten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epeden, karşıdan, çıkıştan, tarihten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8640"/>
            <a:ext cx="8507520" cy="6264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ekleri yazarken bazılarının önüne, bazılarının da hem önüne hem de arkasına (-) veya (+) işareti koyarız. Bunun kuralı 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Ek, herhangi bir fiil kök veya gövdesine geliyorsa, ekin fiile gelebilen bir ek olduğunu belirtmek için ekten önce (-) işareti konur. Kelime ek aldıktan sonra türü değişip isimleşmişse ekten sonra herhangi bir işaret konmaz. Eğer daha sonra yine bir ek alacaksa o takdirde yeni alacağı ekten önceki kısmın isim veya fiil oluşuna göre (+) veya (-) işaretini koyarı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dört çeşit yapım eki vardır:</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fiil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fiil yapan ekler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765000"/>
            <a:ext cx="8610480" cy="590400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Vasıta hâli, </a:t>
            </a:r>
            <a:r>
              <a:rPr b="0" lang="tr-TR" sz="2400" spc="-1" strike="noStrike">
                <a:solidFill>
                  <a:srgbClr val="000000"/>
                </a:solidFill>
                <a:latin typeface="Times New Roman"/>
                <a:ea typeface="Times New Roman"/>
              </a:rPr>
              <a:t>vasıta ve zaman ifade ederek ismi fiile bağlar.  Asıl vasıta hali eki -n’dir,  fakat,  bugün kullanıştan düşmüş, yerini ile edatı almışt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rabayla,  kaşıkla, uçakla,  otobüsle...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Eşitlik hâli, </a:t>
            </a:r>
            <a:r>
              <a:rPr b="0" lang="tr-TR" sz="2400" spc="-1" strike="noStrike">
                <a:solidFill>
                  <a:srgbClr val="000000"/>
                </a:solidFill>
                <a:latin typeface="Times New Roman"/>
                <a:ea typeface="Times New Roman"/>
              </a:rPr>
              <a:t>ismin eşitlik, benzerlik, gibilik ifade eden hâlidir. Ekleri, -ca, -ce, ça, çe şekI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nsanca, güzelce, böylece, kurnazca...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Yön gösterme hâli, </a:t>
            </a:r>
            <a:r>
              <a:rPr b="0" lang="tr-TR" sz="2400" spc="-1" strike="noStrike">
                <a:solidFill>
                  <a:srgbClr val="000000"/>
                </a:solidFill>
                <a:latin typeface="Times New Roman"/>
                <a:ea typeface="Times New Roman"/>
              </a:rPr>
              <a:t>ismi fiile bağlar. Ekleri, -ra, -re, -arı, -eri şeklinledir. Kalıplaşmış birkaç kelimede kullanılmaktadır.  Sonra, üzere, dışarı, içeri, ileri, yukarı …gibi.</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Soru eki, </a:t>
            </a:r>
            <a:r>
              <a:rPr b="0" lang="tr-TR" sz="2400" spc="-1" strike="noStrike">
                <a:solidFill>
                  <a:srgbClr val="000000"/>
                </a:solidFill>
                <a:latin typeface="Times New Roman"/>
                <a:ea typeface="Times New Roman"/>
              </a:rPr>
              <a:t>ismin soru şeklini yapan ektir. İsmi fiile bağlar. Ekleri mı, mi, mu, mü şeklindedir. Büyük mü? Oyun mu?...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95280" y="260280"/>
            <a:ext cx="8539200" cy="59882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Fiil Çekim Ek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 çekimi, fiil kök ve gövdelerine fiil çekim ekleri getirilmesi demek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Şahıs ekleri, şekil ve zaman ekleri, sıfat fiil, zarf fiil ve soru eki fiil çekim eklerid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a-Şahıs ekleri, </a:t>
            </a:r>
            <a:r>
              <a:rPr b="0" lang="tr-TR" sz="2200" spc="-1" strike="noStrike">
                <a:solidFill>
                  <a:srgbClr val="000000"/>
                </a:solidFill>
                <a:latin typeface="Times New Roman"/>
                <a:ea typeface="Times New Roman"/>
              </a:rPr>
              <a:t>çekimli fiillerde hareketi yapan veya olan şahsı ifade eden eklerdi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 -ım, -im, -um, -ü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sın, -sin, -sun, -sü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ız, -iz, -uz, -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iniz, -siniz, -sunuz, -sün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1ar, -1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280" y="189000"/>
            <a:ext cx="8394840" cy="6059520"/>
          </a:xfrm>
          <a:prstGeom prst="rect">
            <a:avLst/>
          </a:prstGeom>
          <a:noFill/>
          <a:ln w="0">
            <a:noFill/>
          </a:ln>
        </p:spPr>
        <p:txBody>
          <a:bodyPr anchor="t">
            <a:normAutofit/>
          </a:bodyPr>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 -k(e)</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ız, -niz, -nuz, -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lar, -ler</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yim, -ayı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 -sin, -sun ,-sü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lım, -eli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n, -un, -ün, -iniz, -iniz, -unuz, -ü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lar, -sinler, -sunlar, -sünler</a:t>
            </a:r>
            <a:endParaRPr b="0" lang="en-US" sz="2200" spc="-1" strike="noStrike">
              <a:solidFill>
                <a:srgbClr val="000000"/>
              </a:solidFill>
              <a:latin typeface="Calibri"/>
            </a:endParaRPr>
          </a:p>
          <a:p>
            <a:pPr marL="81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000" y="115560"/>
            <a:ext cx="8466120" cy="6553080"/>
          </a:xfrm>
          <a:prstGeom prst="rect">
            <a:avLst/>
          </a:prstGeom>
          <a:noFill/>
          <a:ln w="0">
            <a:noFill/>
          </a:ln>
        </p:spPr>
        <p:txBody>
          <a:bodyPr anchor="t">
            <a:normAutofit/>
          </a:bodyPr>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b-Şekil ve zaman ekleri, </a:t>
            </a:r>
            <a:r>
              <a:rPr b="0" lang="tr-TR" sz="2500" spc="-1" strike="noStrike">
                <a:solidFill>
                  <a:srgbClr val="000000"/>
                </a:solidFill>
                <a:latin typeface="Times New Roman"/>
                <a:ea typeface="Times New Roman"/>
              </a:rPr>
              <a:t>fiil kök veya gövdesinin karşıladığı hareketi şekle ve zamana bağlayan eklerdir. Şekil ve zaman  ifadesi  taşırlar. Bu ekler şunlardı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niş zaman </a:t>
            </a:r>
            <a:r>
              <a:rPr b="0" lang="tr-TR" sz="2500" spc="-1" strike="noStrike">
                <a:solidFill>
                  <a:srgbClr val="000000"/>
                </a:solidFill>
                <a:latin typeface="Times New Roman"/>
                <a:ea typeface="Times New Roman"/>
              </a:rPr>
              <a:t>: -r, -ar, -er ; verir, okur, yapar, yazar...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Şimdiki zaman: </a:t>
            </a:r>
            <a:r>
              <a:rPr b="0" lang="tr-TR" sz="2500" spc="-1" strike="noStrike">
                <a:solidFill>
                  <a:srgbClr val="000000"/>
                </a:solidFill>
                <a:latin typeface="Times New Roman"/>
                <a:ea typeface="Times New Roman"/>
              </a:rPr>
              <a:t>-yor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lıyorum, alıyorsun, alıyor, alıyoruz, alıyorsunuz alıyorlar... gib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makta, -mekte, -mada, -mede ekleri bu gün ikinci bir şimdiki zaman şekli olarak kullanılmaktadır: Almaktayım, almaktasın, almaktadır (almakta), almaktayız, almaktasınız, almaktadırla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örülen geçmiş zaman: </a:t>
            </a:r>
            <a:r>
              <a:rPr b="0" lang="tr-TR" sz="2500" spc="-1" strike="noStrike">
                <a:solidFill>
                  <a:srgbClr val="000000"/>
                </a:solidFill>
                <a:latin typeface="Times New Roman"/>
                <a:ea typeface="Times New Roman"/>
              </a:rPr>
              <a:t>-dı ,-di, -du, -dü, -tı, -ti, -tu, tü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eldim, geldin, geldi, geldik, geldiniz, geldiler... 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Öğrenilen Geçmiş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mış, -miş, -muş, müş; gelmişim, gelmişsin, gelmiş gelmişiz., gelmişsiniz., gelmişle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lecek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acak, -ecek: alacağım, alacaksın, alacak, alacağız, alacaksınız, alacakl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95280" y="476280"/>
            <a:ext cx="8539200" cy="6192720"/>
          </a:xfrm>
          <a:prstGeom prst="rect">
            <a:avLst/>
          </a:prstGeom>
          <a:noFill/>
          <a:ln w="0">
            <a:noFill/>
          </a:ln>
        </p:spPr>
        <p:txBody>
          <a:bodyPr anchor="t">
            <a:normAutofit/>
          </a:bodyPr>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Emir:</a:t>
            </a:r>
            <a:r>
              <a:rPr b="0" lang="tr-TR" sz="2400" spc="-1" strike="noStrike">
                <a:solidFill>
                  <a:srgbClr val="000000"/>
                </a:solidFill>
                <a:latin typeface="Times New Roman"/>
                <a:ea typeface="Times New Roman"/>
              </a:rPr>
              <a:t>Zaman göstermezler sadece şekil ekleridir; yapayım, yap, yapsın, , yapalım, yapın(yapınız), yapsın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Şart:</a:t>
            </a:r>
            <a:r>
              <a:rPr b="0" lang="tr-TR" sz="2400" spc="-1" strike="noStrike">
                <a:solidFill>
                  <a:srgbClr val="000000"/>
                </a:solidFill>
                <a:latin typeface="Times New Roman"/>
                <a:ea typeface="Times New Roman"/>
              </a:rPr>
              <a:t>-sa, -se ; sorsam, sorsan, sorsa, sorsak, sorsanız, sorsalar...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stek</a:t>
            </a:r>
            <a:r>
              <a:rPr b="0" lang="tr-TR" sz="2400" spc="-1" strike="noStrike">
                <a:solidFill>
                  <a:srgbClr val="000000"/>
                </a:solidFill>
                <a:latin typeface="Times New Roman"/>
                <a:ea typeface="Times New Roman"/>
              </a:rPr>
              <a:t>: -a, -e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lasın, ola , olasınız, ola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Gereklilik:</a:t>
            </a:r>
            <a:r>
              <a:rPr b="0" lang="tr-TR" sz="2400" spc="-1" strike="noStrike">
                <a:solidFill>
                  <a:srgbClr val="00b0f0"/>
                </a:solidFill>
                <a:latin typeface="Times New Roman"/>
                <a:ea typeface="Times New Roman"/>
              </a:rPr>
              <a:t>-</a:t>
            </a:r>
            <a:r>
              <a:rPr b="0" lang="tr-TR" sz="2400" spc="-1" strike="noStrike">
                <a:solidFill>
                  <a:srgbClr val="000000"/>
                </a:solidFill>
                <a:latin typeface="Times New Roman"/>
                <a:ea typeface="Times New Roman"/>
              </a:rPr>
              <a:t>malı, -meli ; yürütmeliyim, yürütmelisin, yürütmeli, yürütmeliyiz, yürütmelisiniz, yürütmeliler... gi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1" lang="tr-TR" sz="3000" spc="-1" strike="noStrike">
                <a:solidFill>
                  <a:srgbClr val="ff0000"/>
                </a:solidFill>
                <a:latin typeface="Times New Roman"/>
                <a:ea typeface="Times New Roman"/>
              </a:rPr>
              <a:t>Ek Fiil (-imek Fiili-İsim fiil)</a:t>
            </a:r>
            <a:endParaRPr b="0" lang="en-US" sz="30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ukarıda gördüğümüz dokuz şekil ve zaman eki bütün fiillerde kullanılır, yalnız bir fiil vardır ki, o fiile bu eklerin hepsi getirilemez. O fiil imek fiilidir. İmek fiili Türkçenin ana yardımcı fiilidir. Cevher fiil veya ek fiil adı da verilir. İsimleri fiilleştirdiğinden dolayı isim fiil de denir. İsim fiilinin bütün çekimleri yoktur. Sadece şimdiki zaman, görülen geçmiş zaman, öğrenilen geçmiş zaman ve şart çekimleri vardır.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188640"/>
            <a:ext cx="8785080" cy="6669000"/>
          </a:xfrm>
          <a:prstGeom prst="rect">
            <a:avLst/>
          </a:prstGeom>
          <a:noFill/>
          <a:ln w="0">
            <a:noFill/>
          </a:ln>
        </p:spPr>
        <p:txBody>
          <a:bodyPr anchor="t">
            <a:normAutofit/>
          </a:bodyPr>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 fiil çok defa i- kökü düşerek kullanışta ekleş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1-</a:t>
            </a:r>
            <a:r>
              <a:rPr b="1" lang="tr-TR" sz="2000" spc="-1" strike="noStrike">
                <a:solidFill>
                  <a:srgbClr val="00b0f0"/>
                </a:solidFill>
                <a:latin typeface="Times New Roman"/>
                <a:ea typeface="Times New Roman"/>
              </a:rPr>
              <a:t>Şimdiki Zaman/Teklik</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 Şahıs: -ım, -im, -um, -üm</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ın, -sin, -sun, -sün 3.Şahıs: -dır, -dir, -dur, -dü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Şimdiki Zaman </a:t>
            </a:r>
            <a:r>
              <a:rPr b="0" lang="tr-TR" sz="2000" spc="-1" strike="noStrike">
                <a:solidFill>
                  <a:srgbClr val="00b0f0"/>
                </a:solidFill>
                <a:latin typeface="Times New Roman"/>
                <a:ea typeface="Times New Roman"/>
              </a:rPr>
              <a:t>/Çokluk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Şahıs: -ız, -iz, -uz, -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iniz, -siniz, -sunuz, -sün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Şahıs: -dırlar, -dirler, -durlar, -dürler, -tırlar, -tirler, -turlar, -tür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ekimi şöyled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orgunum, yorgunsun, yorgundur Yorgunuz, yorgunsunuz, yorgundurla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2-Görülen geçmiş zaman</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m, idin, idi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k , idiniz, idi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3-Öğrenilen geçmiş zaman</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mişim, imişsin, imiş İmişiz, imişsiniz, imiş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4-Şart</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m, isen, ise</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k, iseniz, iseler</a:t>
            </a:r>
            <a:endParaRPr b="0" lang="en-US" sz="2000" spc="-1" strike="noStrike">
              <a:solidFill>
                <a:srgbClr val="000000"/>
              </a:solidFill>
              <a:latin typeface="Calibri"/>
            </a:endParaRPr>
          </a:p>
          <a:p>
            <a:pPr marL="81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4000" y="115560"/>
            <a:ext cx="8610480" cy="64818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lerin Birleşik Çekimler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çekimin üç kipi vardır: Hikâye, rivayet, şart. Dördüncü olarak; kuvvetlendirme ve ihtimal de birleşik çekim sayılabili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Hikâye</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Geliyordum, gelmiştim, geldiydi...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hariç bütün kiplerin hikâyesi v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Rivaye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Bilirmişim, bilseymişiz...gibı.</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rülen geçmiş zaman ile emir kipinin rivayeti yok, diğer çekimlerin rivayeti vardır.</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95280" y="115920"/>
            <a:ext cx="8640720" cy="662616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Şar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şartı ile yapılan birleşik çekimdir. Beklemişsek, gördüyse...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şart ve istek çekimlerinin şartı yoktur. Diğer çekimlerin şartı vardı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Kuvvetlendirme ve ihtimal</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 fiilinin şimdiki zaman eki ile yapılan (yani bildirme eki ile) birleşik çekimdi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elmiştir, biliyorsundur, göreceksinizd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çekimde, yalnız bildirmenin üçüncü teklik şahıs eki olan -dır, -dir, -dur, -dür kullanıl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ır, -dir  eki bir kuvvetlendirme, bir de ihtimal bildirir. gelmiştir (mutlaka gelmiştir), gelmiştir (belki gelmişt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c- Soru ek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i soru şekline sokar. Geleyim mi?, gelir misin?... 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755200" cy="6553080"/>
          </a:xfrm>
          <a:prstGeom prst="rect">
            <a:avLst/>
          </a:prstGeom>
          <a:noFill/>
          <a:ln w="0">
            <a:noFill/>
          </a:ln>
        </p:spPr>
        <p:txBody>
          <a:bodyPr anchor="t">
            <a:normAutofit/>
          </a:bodyPr>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ç-Sıfat F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n, -en: kıran, gelen,  koşan</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 -er:  koşar,  </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ış, -miş, -muş, -müş: Susamış, okumuş, geçmiş,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ik, -dik, -duk, -dük, -tık, -tik, -tuk, -tük: Duyulmadık, bildik, tanıdı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cak, -ecek:  Açılacak, görülecek, yakacak, giyece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sı, -esi: Yıkılası, olası, kırılas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z, -mez: Bitmez, tükenmez, çıkmaz, solmaz, yılmaz...gibi.</a:t>
            </a: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d- Zarf Fi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 -e:  Gide gide, çıka gelmek, geçe, kala, güle oynay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 ,-i, -u, -ü:  Alıver, çekiver, soruver...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p, -ip, -up, -üp:  Uyuyup, görüp...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ak, -erek:  Koşarak, başlayarak, gül erek...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nca, -ince, -unca, -ünce:  Yapınca, gidince, çıkmayınc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ı, -eli:  Geleli, otural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dan, -meden:  Bilmeden, anlamadan, konuşmada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şın, -işin, -uşun, -üşün:  Gelişin, gidişin, başlayışı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n:  Gelirken, yaparke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ıkça, -dikçe, -dukça, -dükçe, -tıkça, -tikçe, -tukça, -tükçe:   Gittikçe, susadıkça…</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8" name=""/>
          <p:cNvSpPr txBox="1"/>
          <p:nvPr/>
        </p:nvSpPr>
        <p:spPr>
          <a:xfrm>
            <a:off x="304920" y="1483920"/>
            <a:ext cx="8686800" cy="4969080"/>
          </a:xfrm>
          <a:prstGeom prst="rect">
            <a:avLst/>
          </a:prstGeom>
          <a:noFill/>
          <a:ln w="0">
            <a:noFill/>
          </a:ln>
        </p:spPr>
        <p:txBody>
          <a:bodyPr anchor="t">
            <a:normAutofit/>
          </a:bodyPr>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Türkiye Türkçesi Grameri Şekil Bilgisi, Türk Dil Kurumu Yayınları, Ankara 2009.</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SARI, Mehmet, Fakülte ve Yüksekokullar İçin Türk Dili Ders Kitabı, Okutman Yayıncılık, Ankara 2011.</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u="sng">
                <a:solidFill>
                  <a:srgbClr val="0000ff"/>
                </a:solidFill>
                <a:uFillTx/>
                <a:latin typeface="Times New Roman"/>
                <a:ea typeface="Times New Roman"/>
                <a:hlinkClick r:id="rId1"/>
              </a:rPr>
              <a:t>www.cokbilgi.com/yazi/turkçede-kelime-turetme/</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mersin.mitoswep.com/browsel/78084/meliha_gul_tez.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turkoloji.cu.edu.tr/YENİ%20TURK%20DILI/mustafa_senel_kes_kopyala_yeni_kelime.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marL="743040" indent="-743040" algn="ct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İsimden İsim  Yapan Ekler:</a:t>
            </a:r>
            <a:endParaRPr b="0" lang="en-US" sz="3600" spc="-1" strike="noStrike">
              <a:solidFill>
                <a:srgbClr val="000000"/>
              </a:solidFill>
              <a:latin typeface="Calibri"/>
            </a:endParaRPr>
          </a:p>
        </p:txBody>
      </p:sp>
      <p:sp>
        <p:nvSpPr>
          <p:cNvPr id="45" name=""/>
          <p:cNvSpPr txBox="1"/>
          <p:nvPr/>
        </p:nvSpPr>
        <p:spPr>
          <a:xfrm>
            <a:off x="323640" y="1052280"/>
            <a:ext cx="8569080" cy="554508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den isim yapma ekleri, kök ya da gövdelerden köken anlamıyla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ağlantılı yeni isim yapan eklerdir. Bunlardan bazıları şunlardır:</a:t>
            </a:r>
            <a:endParaRPr b="0" lang="en-US" sz="2200" spc="-1" strike="noStrike">
              <a:solidFill>
                <a:srgbClr val="000000"/>
              </a:solidFill>
              <a:latin typeface="Calibri"/>
            </a:endParaRPr>
          </a:p>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lık, +lik, +luk, +lük</a:t>
            </a:r>
            <a:r>
              <a:rPr b="0" lang="tr-TR" sz="2200" spc="-1" strike="noStrike">
                <a:solidFill>
                  <a:srgbClr val="000000"/>
                </a:solidFill>
                <a:latin typeface="Times New Roman"/>
                <a:ea typeface="Times New Roman"/>
              </a:rPr>
              <a:t>: Türkçenin belli başlı eklerinden olup isimlerden yer, alet, topluluk isimleri ve sıfat yapmada kullanılır:  </a:t>
            </a:r>
            <a:r>
              <a:rPr b="1" lang="tr-TR" sz="2200" spc="-1" strike="noStrike">
                <a:solidFill>
                  <a:srgbClr val="000000"/>
                </a:solidFill>
                <a:latin typeface="Times New Roman"/>
                <a:ea typeface="Times New Roman"/>
              </a:rPr>
              <a:t>ağaç+lık, çiçek+lik, odun+luk, göz+lük, gül+lük, kulak+lık, genç+lik, insan+lık, güzel+lik, batak+lık </a:t>
            </a:r>
            <a:r>
              <a:rPr b="0" lang="tr-TR" sz="2200" spc="-1" strike="noStrike">
                <a:solidFill>
                  <a:srgbClr val="000000"/>
                </a:solidFill>
                <a:latin typeface="Times New Roman"/>
                <a:ea typeface="Times New Roman"/>
              </a:rPr>
              <a:t>vb.</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cı, +ci, +cu, +cü, + çı, + çi, + çu, + çü</a:t>
            </a:r>
            <a:r>
              <a:rPr b="0" lang="tr-TR" sz="2200" spc="-1" strike="noStrike">
                <a:solidFill>
                  <a:srgbClr val="000000"/>
                </a:solidFill>
                <a:latin typeface="Times New Roman"/>
                <a:ea typeface="Times New Roman"/>
              </a:rPr>
              <a:t>: Çok işlek bir ektir. Çeşitli isimlerin sonuna gelerek meslek ismi, ilgi isimleri,alışkanlık ve davranış bildiren isimler, taraftar ve yer isimleri yapar: </a:t>
            </a:r>
            <a:r>
              <a:rPr b="1" lang="tr-TR" sz="2200" spc="-1" strike="noStrike">
                <a:solidFill>
                  <a:srgbClr val="000000"/>
                </a:solidFill>
                <a:latin typeface="Times New Roman"/>
                <a:ea typeface="Times New Roman"/>
              </a:rPr>
              <a:t>boya+cı, süt+çü, eski+ci, su+cu, yalan+cı, dava+cı, yol+cu, nişan+cı, inkılap+çı, milliyet+çi, Ayran+cı, Bostan+cı</a:t>
            </a:r>
            <a:r>
              <a:rPr b="0" lang="tr-TR" sz="2200" spc="-1" strike="noStrike">
                <a:solidFill>
                  <a:srgbClr val="000000"/>
                </a:solidFill>
                <a:latin typeface="Times New Roman"/>
                <a:ea typeface="Times New Roman"/>
              </a:rPr>
              <a:t> vb.</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6840" y="692280"/>
            <a:ext cx="8435880" cy="5433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ı, +li, +lu, +lü: </a:t>
            </a:r>
            <a:r>
              <a:rPr b="0" lang="tr-TR" sz="2400" spc="-1" strike="noStrike">
                <a:solidFill>
                  <a:srgbClr val="000000"/>
                </a:solidFill>
                <a:latin typeface="Times New Roman"/>
                <a:ea typeface="Times New Roman"/>
              </a:rPr>
              <a:t>Esas özelliği sıfat yapmak olduğu için “sıfat eki” diye de adlandırılır. Çok işlek olan eklerden biridir. Getirildiği isme kendinde bulunma, sahiplik ve bağlılık anlamı kazandırır.:</a:t>
            </a:r>
            <a:r>
              <a:rPr b="1" lang="tr-TR" sz="2400" spc="-1" strike="noStrike">
                <a:solidFill>
                  <a:srgbClr val="000000"/>
                </a:solidFill>
                <a:latin typeface="Times New Roman"/>
                <a:ea typeface="Times New Roman"/>
              </a:rPr>
              <a:t>yaş+lı, boya+lı, güneş+li, dert+li, toz+lu, kömür+l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ız, +siz, +suz, +süz: </a:t>
            </a:r>
            <a:r>
              <a:rPr b="0" lang="tr-TR" sz="2400" spc="-1" strike="noStrike">
                <a:solidFill>
                  <a:srgbClr val="000000"/>
                </a:solidFill>
                <a:latin typeface="Times New Roman"/>
                <a:ea typeface="Times New Roman"/>
              </a:rPr>
              <a:t>+lı, +li, +lu, +lü ekinin olumsuzudur. Çok işlek bir ektir. Zarf, sıfat, isim yapar: </a:t>
            </a:r>
            <a:r>
              <a:rPr b="1" lang="tr-TR" sz="2400" spc="-1" strike="noStrike">
                <a:solidFill>
                  <a:srgbClr val="000000"/>
                </a:solidFill>
                <a:latin typeface="Times New Roman"/>
                <a:ea typeface="Times New Roman"/>
              </a:rPr>
              <a:t>boya+sız, güneş+siz, dert+siz, para+sız, can+sız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ık, +cik, +cuk, +cük: </a:t>
            </a:r>
            <a:r>
              <a:rPr b="0" lang="tr-TR" sz="2400" spc="-1" strike="noStrike">
                <a:solidFill>
                  <a:srgbClr val="000000"/>
                </a:solidFill>
                <a:latin typeface="Times New Roman"/>
                <a:ea typeface="Times New Roman"/>
              </a:rPr>
              <a:t>Günümüzde işlek eklerden biri olan bu ek, getirildiği isme küçültme ve sevgi anlamı kazandırır: </a:t>
            </a:r>
            <a:r>
              <a:rPr b="1" lang="tr-TR" sz="2400" spc="-1" strike="noStrike">
                <a:solidFill>
                  <a:srgbClr val="000000"/>
                </a:solidFill>
                <a:latin typeface="Times New Roman"/>
                <a:ea typeface="Times New Roman"/>
              </a:rPr>
              <a:t>ufa(k)+cık, anne+cik, Mehmet+çik, tosun+cuk, göl+cük</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92280"/>
            <a:ext cx="8229600" cy="5433840"/>
          </a:xfrm>
          <a:prstGeom prst="rect">
            <a:avLst/>
          </a:prstGeom>
          <a:noFill/>
          <a:ln w="0">
            <a:noFill/>
          </a:ln>
        </p:spPr>
        <p:txBody>
          <a:bodyPr anchor="t">
            <a:normAutofit/>
          </a:bodyPr>
          <a:p>
            <a:pPr lvl="2" marL="1143000" indent="-228600">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ğız, +ceğiz: </a:t>
            </a:r>
            <a:r>
              <a:rPr b="0" lang="tr-TR" sz="2400" spc="-1" strike="noStrike">
                <a:solidFill>
                  <a:srgbClr val="000000"/>
                </a:solidFill>
                <a:latin typeface="Times New Roman"/>
                <a:ea typeface="Times New Roman"/>
              </a:rPr>
              <a:t>Küçültme ve sevgi ifade etmekle birlikte, daha çok zavallılık anlamı kazandırır: </a:t>
            </a:r>
            <a:r>
              <a:rPr b="1" lang="tr-TR" sz="2400" spc="-1" strike="noStrike">
                <a:solidFill>
                  <a:srgbClr val="000000"/>
                </a:solidFill>
                <a:latin typeface="Times New Roman"/>
                <a:ea typeface="Times New Roman"/>
              </a:rPr>
              <a:t>çocuk+cağız, kız+cağız, ev+ceğiz, hayvan+cağız</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 +ce, +ça, +çe: </a:t>
            </a:r>
            <a:r>
              <a:rPr b="0" lang="tr-TR" sz="2400" spc="-1" strike="noStrike">
                <a:solidFill>
                  <a:srgbClr val="000000"/>
                </a:solidFill>
                <a:latin typeface="Times New Roman"/>
                <a:ea typeface="Times New Roman"/>
              </a:rPr>
              <a:t>Millet isimlerinden lehçe ve şive ismi yapmada kullanılır: </a:t>
            </a:r>
            <a:r>
              <a:rPr b="1" lang="tr-TR" sz="2400" spc="-1" strike="noStrike">
                <a:solidFill>
                  <a:srgbClr val="000000"/>
                </a:solidFill>
                <a:latin typeface="Times New Roman"/>
                <a:ea typeface="Times New Roman"/>
              </a:rPr>
              <a:t>Alman+ca, İngiliz+ce, Arap+ça, Türk+çe, Türkmen+c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ş, +taş: </a:t>
            </a:r>
            <a:r>
              <a:rPr b="0" lang="tr-TR" sz="2400" spc="-1" strike="noStrike">
                <a:solidFill>
                  <a:srgbClr val="000000"/>
                </a:solidFill>
                <a:latin typeface="Times New Roman"/>
                <a:ea typeface="Times New Roman"/>
              </a:rPr>
              <a:t>Eskiden beri kullanılan işlek eklerimizdendir. Görevi ortaklık, eşlik, mensubiyet ve bağlılık isimleri yapmaktır: </a:t>
            </a:r>
            <a:r>
              <a:rPr b="1" lang="tr-TR" sz="2400" spc="-1" strike="noStrike">
                <a:solidFill>
                  <a:srgbClr val="000000"/>
                </a:solidFill>
                <a:latin typeface="Times New Roman"/>
                <a:ea typeface="Times New Roman"/>
              </a:rPr>
              <a:t>ülkü+daş, soy+daş, yol+daş, arka+daş, yurt+taş, meslek+ta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ncı, +inci: </a:t>
            </a:r>
            <a:r>
              <a:rPr b="0" lang="tr-TR" sz="2400" spc="-1" strike="noStrike">
                <a:solidFill>
                  <a:srgbClr val="000000"/>
                </a:solidFill>
                <a:latin typeface="Times New Roman"/>
                <a:ea typeface="Times New Roman"/>
              </a:rPr>
              <a:t>Oldukça işlek bir ektir.Sayı isimleri yapmada kullanılan bu ek getirildiği sayıya sıra ve derece anlamı kazandırır: </a:t>
            </a:r>
            <a:r>
              <a:rPr b="1" lang="tr-TR" sz="2400" spc="-1" strike="noStrike">
                <a:solidFill>
                  <a:srgbClr val="000000"/>
                </a:solidFill>
                <a:latin typeface="Times New Roman"/>
                <a:ea typeface="Times New Roman"/>
              </a:rPr>
              <a:t>bir+(i)nci, üç+(ü)ncü, on+(u)ncu, elli+nci, yüz+(ü)ncü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şar, +şer: </a:t>
            </a:r>
            <a:r>
              <a:rPr b="0" lang="tr-TR" sz="2400" spc="-1" strike="noStrike">
                <a:solidFill>
                  <a:srgbClr val="000000"/>
                </a:solidFill>
                <a:latin typeface="Times New Roman"/>
                <a:ea typeface="Times New Roman"/>
              </a:rPr>
              <a:t>Oldukça işlek bir ektir. Paylaştırma bildiren sayı isimleri yapar: </a:t>
            </a:r>
            <a:r>
              <a:rPr b="1" lang="tr-TR" sz="2400" spc="-1" strike="noStrike">
                <a:solidFill>
                  <a:srgbClr val="000000"/>
                </a:solidFill>
                <a:latin typeface="Times New Roman"/>
                <a:ea typeface="Times New Roman"/>
              </a:rPr>
              <a:t>bir+er, iki+şer, beş+er, altı+şar, kırk+a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msı, +imsi: </a:t>
            </a:r>
            <a:r>
              <a:rPr b="0" lang="tr-TR" sz="2400" spc="-1" strike="noStrike">
                <a:solidFill>
                  <a:srgbClr val="000000"/>
                </a:solidFill>
                <a:latin typeface="Times New Roman"/>
                <a:ea typeface="Times New Roman"/>
              </a:rPr>
              <a:t>Oldukça işlek bir ektir. Benzerlik ve gibilik ifade eden bir ektir. Özellikle renk ve tat isimlerinde kullanılır: </a:t>
            </a:r>
            <a:r>
              <a:rPr b="1" lang="tr-TR" sz="2400" spc="-1" strike="noStrike">
                <a:solidFill>
                  <a:srgbClr val="000000"/>
                </a:solidFill>
                <a:latin typeface="Times New Roman"/>
                <a:ea typeface="Times New Roman"/>
              </a:rPr>
              <a:t>mavi+msi, ekşi+msi, acı+msı, mor+umsu, beyaz+ımsı </a:t>
            </a:r>
            <a:r>
              <a:rPr b="0" lang="tr-TR" sz="2400" spc="-1" strike="noStrike">
                <a:solidFill>
                  <a:srgbClr val="000000"/>
                </a:solidFill>
                <a:latin typeface="Times New Roman"/>
                <a:ea typeface="Times New Roman"/>
              </a:rPr>
              <a:t>vb. Türkçemizdeki </a:t>
            </a:r>
            <a:r>
              <a:rPr b="1" lang="tr-TR" sz="2400" spc="-1" strike="noStrike">
                <a:solidFill>
                  <a:srgbClr val="000000"/>
                </a:solidFill>
                <a:latin typeface="Times New Roman"/>
                <a:ea typeface="Times New Roman"/>
              </a:rPr>
              <a:t>“+mtırak” </a:t>
            </a:r>
            <a:r>
              <a:rPr b="0" lang="tr-TR" sz="2400" spc="-1" strike="noStrike">
                <a:solidFill>
                  <a:srgbClr val="000000"/>
                </a:solidFill>
                <a:latin typeface="Times New Roman"/>
                <a:ea typeface="Times New Roman"/>
              </a:rPr>
              <a:t>eki de aynı görevde olup, kullanılış sahası dardır: </a:t>
            </a:r>
            <a:r>
              <a:rPr b="1" lang="tr-TR" sz="2400" spc="-1" strike="noStrike">
                <a:solidFill>
                  <a:srgbClr val="000000"/>
                </a:solidFill>
                <a:latin typeface="Times New Roman"/>
                <a:ea typeface="Times New Roman"/>
              </a:rPr>
              <a:t>beyaz+(ı)mtırak, sarı+mtır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620280"/>
            <a:ext cx="8229600" cy="5505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ı, +ti, ,+tu, +tü: </a:t>
            </a:r>
            <a:r>
              <a:rPr b="0" lang="tr-TR" sz="2400" spc="-1" strike="noStrike">
                <a:solidFill>
                  <a:srgbClr val="000000"/>
                </a:solidFill>
                <a:latin typeface="Times New Roman"/>
                <a:ea typeface="Times New Roman"/>
              </a:rPr>
              <a:t>Sadece tabiat taklidi kelimelerin yapımında kullanılır. Oldukça işlek bir ektir: </a:t>
            </a:r>
            <a:r>
              <a:rPr b="1" lang="tr-TR" sz="2400" spc="-1" strike="noStrike">
                <a:solidFill>
                  <a:srgbClr val="000000"/>
                </a:solidFill>
                <a:latin typeface="Times New Roman"/>
                <a:ea typeface="Times New Roman"/>
              </a:rPr>
              <a:t>gürül+tü, patır+tı, fısıl+tı, şırıl+t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ak, +lek: </a:t>
            </a:r>
            <a:r>
              <a:rPr b="0" lang="tr-TR" sz="2400" spc="-1" strike="noStrike">
                <a:solidFill>
                  <a:srgbClr val="000000"/>
                </a:solidFill>
                <a:latin typeface="Times New Roman"/>
                <a:ea typeface="Times New Roman"/>
              </a:rPr>
              <a:t>Yer isimleri ve aşağılayıcı manada insan tiplerini belirten isimler yapar: </a:t>
            </a:r>
            <a:r>
              <a:rPr b="1" lang="tr-TR" sz="2400" spc="-1" strike="noStrike">
                <a:solidFill>
                  <a:srgbClr val="000000"/>
                </a:solidFill>
                <a:latin typeface="Times New Roman"/>
                <a:ea typeface="Times New Roman"/>
              </a:rPr>
              <a:t>kış+lak, ot+lak, diş+lek, hort+lak, daz+l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nlar haricinde de isimden isim yapım ekleri vardır. Fazla işlek olmadığı için yazılmad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b. İsimden Fiil Yapan Ekler:</a:t>
            </a:r>
            <a:endParaRPr b="0" lang="en-US" sz="3600" spc="-1" strike="noStrike">
              <a:solidFill>
                <a:srgbClr val="000000"/>
              </a:solidFill>
              <a:latin typeface="Calibri"/>
            </a:endParaRPr>
          </a:p>
        </p:txBody>
      </p:sp>
      <p:sp>
        <p:nvSpPr>
          <p:cNvPr id="51" name=""/>
          <p:cNvSpPr txBox="1"/>
          <p:nvPr/>
        </p:nvSpPr>
        <p:spPr>
          <a:xfrm>
            <a:off x="457200" y="1600200"/>
            <a:ext cx="8229600" cy="478152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imden fiil yapan ekler, isim soylu tabanlara gelerek onları fiilleştirirler.</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a, +le: </a:t>
            </a:r>
            <a:r>
              <a:rPr b="0" lang="tr-TR" sz="2400" spc="-1" strike="noStrike">
                <a:solidFill>
                  <a:srgbClr val="000000"/>
                </a:solidFill>
                <a:latin typeface="Times New Roman"/>
                <a:ea typeface="Times New Roman"/>
              </a:rPr>
              <a:t>İsimden fiil yapma eklerinin en işlek olanıdır. Hemen hemen her çeşit isme getirilebilir: </a:t>
            </a:r>
            <a:r>
              <a:rPr b="1" lang="tr-TR" sz="2400" spc="-1" strike="noStrike">
                <a:solidFill>
                  <a:srgbClr val="000000"/>
                </a:solidFill>
                <a:latin typeface="Times New Roman"/>
                <a:ea typeface="Times New Roman"/>
              </a:rPr>
              <a:t>baş+la-, av+la-, bek+le-, gür+le-, ağır+la-</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 +el: </a:t>
            </a:r>
            <a:r>
              <a:rPr b="0" lang="tr-TR" sz="2400" spc="-1" strike="noStrike">
                <a:solidFill>
                  <a:srgbClr val="000000"/>
                </a:solidFill>
                <a:latin typeface="Times New Roman"/>
                <a:ea typeface="Times New Roman"/>
              </a:rPr>
              <a:t>İşlek olmayan bir ektir. Daha çok sıfatlardan fiil yapmak için kullanılır: </a:t>
            </a:r>
            <a:r>
              <a:rPr b="1" lang="tr-TR" sz="2400" spc="-1" strike="noStrike">
                <a:solidFill>
                  <a:srgbClr val="000000"/>
                </a:solidFill>
                <a:latin typeface="Times New Roman"/>
                <a:ea typeface="Times New Roman"/>
              </a:rPr>
              <a:t>az+al-, dar+al-, yön+el-, dik+el-</a:t>
            </a:r>
            <a:r>
              <a:rPr b="0" lang="tr-TR" sz="2400" spc="-1" strike="noStrike">
                <a:solidFill>
                  <a:srgbClr val="000000"/>
                </a:solidFill>
                <a:latin typeface="Times New Roman"/>
                <a:ea typeface="Times New Roman"/>
              </a:rPr>
              <a:t>. Bu ekin görevinde olan diğer bir ek de </a:t>
            </a:r>
            <a:r>
              <a:rPr b="1" lang="tr-TR" sz="2400" spc="-1" strike="noStrike">
                <a:solidFill>
                  <a:srgbClr val="000000"/>
                </a:solidFill>
                <a:latin typeface="Times New Roman"/>
                <a:ea typeface="Times New Roman"/>
              </a:rPr>
              <a:t>“+l-</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Kısa+l-, sivri+l-, doğru+l-</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981000"/>
            <a:ext cx="8229600" cy="514512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 +e-</a:t>
            </a:r>
            <a:r>
              <a:rPr b="0" lang="tr-TR" sz="2400" spc="-1" strike="noStrike">
                <a:solidFill>
                  <a:srgbClr val="000000"/>
                </a:solidFill>
                <a:latin typeface="Times New Roman"/>
                <a:ea typeface="Times New Roman"/>
              </a:rPr>
              <a:t>: İşlek olmayan eklerdendir. İsimlerden olma ve yapma ifade eden fiiller yapar: </a:t>
            </a:r>
            <a:r>
              <a:rPr b="1" lang="tr-TR" sz="2400" spc="-1" strike="noStrike">
                <a:solidFill>
                  <a:srgbClr val="000000"/>
                </a:solidFill>
                <a:latin typeface="Times New Roman"/>
                <a:ea typeface="Times New Roman"/>
              </a:rPr>
              <a:t>yaş+a-, kan+a-, dil+e-, göz+e-, boş+a-, bez+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a:t>
            </a:r>
            <a:r>
              <a:rPr b="0" lang="tr-TR" sz="2400" spc="-1" strike="noStrike">
                <a:solidFill>
                  <a:srgbClr val="000000"/>
                </a:solidFill>
                <a:latin typeface="Times New Roman"/>
                <a:ea typeface="Times New Roman"/>
              </a:rPr>
              <a:t>Daha çok renk isimlerinden fiil yapmada kullanılan bu ekin işleklik sahası dardır: </a:t>
            </a:r>
            <a:r>
              <a:rPr b="1" lang="tr-TR" sz="2400" spc="-1" strike="noStrike">
                <a:solidFill>
                  <a:srgbClr val="000000"/>
                </a:solidFill>
                <a:latin typeface="Times New Roman"/>
                <a:ea typeface="Times New Roman"/>
              </a:rPr>
              <a:t>ak(ğ)+ar-, mor+ar-, baş+ar-, ev+er-, yaş+ar- (yeş+er-)</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 +de-, +ta-, +te-: </a:t>
            </a:r>
            <a:r>
              <a:rPr b="0" lang="tr-TR" sz="2400" spc="-1" strike="noStrike">
                <a:solidFill>
                  <a:srgbClr val="000000"/>
                </a:solidFill>
                <a:latin typeface="Times New Roman"/>
                <a:ea typeface="Times New Roman"/>
              </a:rPr>
              <a:t>Ses taklidi kelimelerden fiil yapmak için kullanılır: </a:t>
            </a:r>
            <a:r>
              <a:rPr b="1" lang="tr-TR" sz="2400" spc="-1" strike="noStrike">
                <a:solidFill>
                  <a:srgbClr val="000000"/>
                </a:solidFill>
                <a:latin typeface="Times New Roman"/>
                <a:ea typeface="Times New Roman"/>
              </a:rPr>
              <a:t>şırıl+da-, horul+da-, fingir+de-, kütür+d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18:11:00Z</dcterms:created>
  <dc:creator>BURAK</dc:creator>
  <dc:description/>
  <dc:language>en-US</dc:language>
  <cp:lastModifiedBy>Mehmet</cp:lastModifiedBy>
  <dcterms:modified xsi:type="dcterms:W3CDTF">2014-11-28T11:01:46Z</dcterms:modified>
  <cp:revision>9</cp:revision>
  <dc:subject/>
  <dc:title>YAPIM EKLERİ:</dc:title>
</cp:coreProperties>
</file>